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6051-AD11-4E8C-A370-9B1390BCA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54D8-CAF1-42CD-BA6C-8A98F212B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B19E-5AB6-49F7-95B7-740694D68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4F45-EA03-4C21-9EFD-43C8F0969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F38A5-13E7-4AC2-9787-FFD82C542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202C6-6B97-40A5-AF39-78BC2BBFD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D5D54-073A-454F-99B4-C976DA2BC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5C08A-FFBC-4661-A9FA-E117B170B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FA839-AAA0-4BA0-B013-BD65D637B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7D064-F5CE-40E4-9063-5C5C9FCFE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69DF2-184C-4775-9FE7-79A7A526E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0221-4755-4FBE-BB69-BE3AF32B5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5223B-B3C2-44D0-81C5-0E9D88B54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E124D-1973-4915-92F8-868463235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BFE87-EC63-4361-8D9B-0E43ECAB2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12809-4BBB-46E1-9BF1-843891DDB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9E7B9-F650-447E-814F-E58818727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775B-B566-404F-9588-7B3841B40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11FF-CD37-492A-B8E0-9BBFC8012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4481-C8FA-48B8-9EC7-A67F01160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416C-BDA4-49C9-A06F-E864883A5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AB23-576B-47BC-8281-F2186CAD8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45A4-B4B9-4CB5-BB47-4E8B42156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6EDE-FEA7-475D-804A-6D3C7F600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9CB20-069B-46B7-9F04-89F63035555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CF875-B516-4027-92DF-B83D5ED7DB7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Arial"/>
              </a:rPr>
              <a:t>第十章  国际资本流动与国际金融市场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International capital flow &amp; International financial marke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Arial"/>
              </a:rPr>
              <a:t>第三节  离岸金融市场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一、离岸金融市场的概念与类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概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类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二、离岸金融市场的形成与发展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三、离岸金融市场的特点和金融工具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离岸金融市场的特点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离岸金融市场的金融工具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存款工具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贷款方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四、离岸金融市场对世界经济的影响及发展趋势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离岸金融市场对世界经济的影响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离岸金融市场发展趋势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66"/>
                </a:solidFill>
                <a:latin typeface="Arial"/>
              </a:rPr>
              <a:t>第一节  国际资本流动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一、国际资本流动的含义与类型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一）国际资本流动的含义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含义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考察国际资本流动可以从五个方面入手：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从资本流动方向来看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从资本流动规模来看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从资本流动的类型来看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从资本流动性质来看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从资本流动方式来看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66"/>
                </a:solidFill>
                <a:latin typeface="Arial"/>
              </a:rPr>
              <a:t>（二）国际资本流动的类型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长期资本流动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）直接投资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）间接投资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）国际借贷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短期资本流动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）贸易资金流动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）银行资金流动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）保值性资本流动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）投机性资本流动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二、国际资本流动理论 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一）关于国际资本流动原因的理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完全竞争说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产品生命周期说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国际生产的内在化理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4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国际生产的折中理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5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垄断优势理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二）关于国际资本流动的效果与影响的理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一般理论模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双缺口理论模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雷布金斯基原理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第二节  国际金融市场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一、国际金融市场概述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一）国际金融市场概念与类型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国际金融市场概念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国际金融市场类型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传统的国际金融市场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新型的国际金融市场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二）国际金融市场形成的条件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国际金融市场所在地必须有较为稳定的经济和政治环境；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国际金融市场需要有宽松的金融政策与优惠措施；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国际金融市场需要有完善的金融市场结构；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4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国际金融市场需要具备良好的地理条件、拥有完善的国际通讯设施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三）国际金融市场的形成与发展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伦敦金融市场的形成与衰落；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纽约金融市场兴起；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离岸金融市场的形成与发展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Arial"/>
              </a:rPr>
              <a:t>二、货币市场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一）定义：期限在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年以内的短期资金借贷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二）货币市场的分类（按照资金融通形式）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银行短期信贷市场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短期证券市场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国库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可转让银行定期存单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银行承兑汇票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商业票据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贴现市场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三、资本市场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一）定义：期限为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年以上的长期资金市场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二）资本市场分类（按照贷款方式的不同）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银行中长期贷款市场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中期贷款：国际惯例为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-5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年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长期贷款：国际惯例为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年以上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中长期贷款运作方式（见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130-131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证券市场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政府债券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企业证券（公司债券、公司股票）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四、外汇市场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一）外汇市场综述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外汇市场定义： 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广义的外汇市场；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狭义的外汇市场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外汇市场的形式（从交易情况划分）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无固定交易场所的外汇市场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有固定交易场所的外汇市场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二）外汇市场的组成机构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外汇银行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外汇经纪人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中央银行等政府管汇机构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4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其他，如跨国公司、投机商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三）世界主要外汇市场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伦敦外汇市场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纽约外汇市场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苏黎世外汇市场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五、黄金市场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一）黄金市场简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五大黄金交易市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黄金市场种类：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按照交割期限划分：现货交易市场和期货交易市场；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按照管制程度划分：自由交易市场和限制交易市场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二）黄金市场的结构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三）黄金市场的交易方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现货交易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期货交易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四）世界主要黄金市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伦敦，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苏黎世，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香港，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4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新加坡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4T02:50:17Z</dcterms:created>
  <dc:creator>MS User</dc:creator>
  <dc:description/>
  <dc:language>en-US</dc:language>
  <cp:lastModifiedBy>Dell</cp:lastModifiedBy>
  <dcterms:modified xsi:type="dcterms:W3CDTF">2021-08-23T22:46:23Z</dcterms:modified>
  <cp:revision>17</cp:revision>
  <dc:subject/>
  <dc:title>第四章  国际资本流动与国际金融市场</dc:title>
</cp:coreProperties>
</file>